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A64-2EFE-4891-8005-E2848653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C438-C698-4CDF-8C1B-B5CD698A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382-3B95-4825-8177-C9D22666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CE74-7F25-4C55-919F-0E9379CB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D00F-895A-439E-B9A6-665C2708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22F1-3A30-4FD1-9BD8-F86B1E00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769-0678-4906-A0ED-D3AFD287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E5C5-9EB1-4198-A69E-23ABD380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440-124D-43B6-A7CD-8E17A358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D23A-D2AB-4C4D-96C6-E0ACE736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2528-B6EB-4B7A-B1CF-203F01AB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3F4-06FA-4C98-AACC-E61A2C28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7EED-DA68-4953-B204-F49C10EAA23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olufinancovaných 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SF/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931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Označení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školících místností a certifikátů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ovinnými lo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NO: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urz pořádaný konkrétně pro příjem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: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urz pro veřejnost, kterého se příjemce pouze účastní.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Vlaječky ČR a EU není třeba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ro označení místnosti není třeba tisknout plakáty či bannery, stačí dostatečně velká a viditelná cedule (čtvrtka) s řadou l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Shrnu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2 manu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Manuál pro publicitu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Manuál vizuální identity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3 základní povinnosti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(závazný balíč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á l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označení školící místnosti a vyba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rezentace na 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droje informací a konta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rogramové období 2007-13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OP LZZ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manuály, šablony, loga, prez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Doporučujeme odebíra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ovinky e-mailem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, kde se dozvíte o aktuálních výzvách, seminářích, realizovaných projektech, zadávacích řízeních a podob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kládání informací na w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Registrace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na stránkách www.esfcr.c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Realizované projekty 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Vložit projekt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Zadávací řízení 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Vložit zadávací řízení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O webu ESFCR – všechny náv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á 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součást všech projektů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spolufinancovaných z fondů E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je předmětem k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řízení Komise č. 1828/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dává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informování příjemců i široké veřejnosti, že projekt je spolufinancován z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dostává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uvedení příjemců na veřejně přístupném sezn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pro publicitu OP LZZ  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stanovuje základní pravidla týkající se publicity v 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vizuální identity OP LZZ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r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je zásady správného pou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ívání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Závazný balíček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k provádění propagačních a informačních aktiv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é minimum publicity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Arial"/>
              </a:rPr>
              <a:t>~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lo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označen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školící místnosti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(+ vybav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ložení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prezentace projektu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 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é minimum publi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a)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 logo fondu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b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ázev „Evropský sociální fond v ČR“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c)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logo E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d)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logo operačního program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e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otto „Podporujeme vaši budoucnost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f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odkaz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ompletní řady i samostatná loga jsou ke stažení na webu (formát JPG, A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vizuální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699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elikost, řazení, rozestupy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bare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typy pís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elké množství příkladů</a:t>
            </a:r>
            <a:r>
              <a:rPr b="0" lang="cs-CZ" sz="36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Lze použít i logo příjemce, případně logo projek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é minimum publicity × publicitní ak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inimum publicity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= povinná loga, uvádí všichni příjemci; propagace programu, fondu, EU (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kdo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 dává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publicitní aktivity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= aktivity specifikované v projektové žádosti; zejména propagace projektu (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a co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se peníze dávaj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Log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PSV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říjemci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emusí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Loga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ení třeba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uvádět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pouze v řadě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Barevná a černobílá varianta lo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6"/>
          <p:cNvGraphicFramePr/>
          <p:nvPr/>
        </p:nvGraphicFramePr>
        <p:xfrm>
          <a:off x="1692360" y="4221000"/>
          <a:ext cx="158436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4221000"/>
                    <a:ext cx="158436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1116000" y="1989000"/>
            <a:ext cx="2664000" cy="816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5"/>
          <a:stretch/>
        </p:blipFill>
        <p:spPr>
          <a:xfrm>
            <a:off x="1116000" y="3068640"/>
            <a:ext cx="2664000" cy="844560"/>
          </a:xfrm>
          <a:prstGeom prst="rect">
            <a:avLst/>
          </a:prstGeom>
          <a:ln w="0">
            <a:noFill/>
          </a:ln>
        </p:spPr>
      </p:pic>
      <p:sp>
        <p:nvSpPr>
          <p:cNvPr id="60" name="Line 8"/>
          <p:cNvSpPr/>
          <p:nvPr/>
        </p:nvSpPr>
        <p:spPr>
          <a:xfrm>
            <a:off x="1403280" y="4076640"/>
            <a:ext cx="1944720" cy="136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H="1">
            <a:off x="1547640" y="4149720"/>
            <a:ext cx="194472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6"/>
          <a:stretch/>
        </p:blipFill>
        <p:spPr>
          <a:xfrm>
            <a:off x="4356000" y="1989000"/>
            <a:ext cx="1328760" cy="128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7"/>
          <a:stretch/>
        </p:blipFill>
        <p:spPr>
          <a:xfrm>
            <a:off x="6516720" y="1989000"/>
            <a:ext cx="1441440" cy="139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8"/>
          <a:stretch/>
        </p:blipFill>
        <p:spPr>
          <a:xfrm>
            <a:off x="5292720" y="3860640"/>
            <a:ext cx="1871640" cy="1206720"/>
          </a:xfrm>
          <a:prstGeom prst="rect">
            <a:avLst/>
          </a:prstGeom>
          <a:ln w="0">
            <a:noFill/>
          </a:ln>
        </p:spPr>
      </p:pic>
      <p:sp>
        <p:nvSpPr>
          <p:cNvPr id="65" name="Line 16"/>
          <p:cNvSpPr/>
          <p:nvPr/>
        </p:nvSpPr>
        <p:spPr>
          <a:xfrm flipH="1">
            <a:off x="4932360" y="3573360"/>
            <a:ext cx="2735280" cy="182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5003640" y="3716280"/>
            <a:ext cx="2735280" cy="1677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Loga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je třeba používat na dokumentech spojených s projektem a na materiálech/předmětech hrazených z projektu, nemusí být ale úplně vš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ANO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: smlouvy, zadávací dokumentace, letáky, brožury, propagační předměty, prezenční listiny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NE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: kancelářské potřeby pro běžnou administrativu, faktury a objednávky (generované strojo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Lze použí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amolepku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nebo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azítko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ětu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„Tento projekt je financován z ESF prostřednictvím OP LZZ a ze státního rozpočtu ČR.“ není třeba v tištěné podobě použí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Accenture</cp:lastModifiedBy>
  <dcterms:modified xsi:type="dcterms:W3CDTF">2012-04-23T08:38:51Z</dcterms:modified>
  <cp:revision>32</cp:revision>
  <dc:subject/>
  <dc:title>Snímek 1</dc:title>
</cp:coreProperties>
</file>